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12B-12D8-4463-9427-065BBE00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919-282E-45CC-9635-5F477C81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98D-2E67-419E-A190-623331CA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E0E-0586-4E7A-A63B-4F1E0C69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7D8D-099A-479F-ADBF-3FDAB584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0DAF-9B8B-46F0-A8C9-A52785FB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3728-B7DE-428F-BBD9-6EF59F37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AF7A-08C0-465B-B12D-A7990347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D63D-88FA-4CA5-9A23-6B22D207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415D-99AF-484D-AF2C-2D06E4D6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E30A-575C-4B9B-9482-EDB6EAE8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8EE-3C3B-407A-9E3F-F7F17286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A4F6-DADC-4D7F-84C1-7C211B8E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BE94-7D55-4D5E-96F9-79D7BEDA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ABA4-508E-425A-A541-D7120211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C08F-7747-4F1A-8F1E-CCA6A302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CF22-1113-4F47-A3D3-01931599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054-05D4-4707-87F8-857E94C6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DCD-7C79-4C92-858A-9A5B3228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8C9-7B14-4625-89A1-E187E39B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C72-C774-4872-9AAB-09124F7F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F6A-E46C-42AA-AF03-6E65583C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5AA-BF14-495B-9539-AF4CC0E4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2E0-08B9-4028-998D-C4B3D88E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F639-9913-4A6D-BFFA-AA6FF68ECC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59A5-5BE9-41C9-8AE5-5CEF85CB52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СПЛАТИВОСТ ИНВЕСТИЦИОНИХ УЛАГАЊ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948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2571840"/>
                <a:gridCol w="565776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сконтна сто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о садашња вред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.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о 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цена исплативости инвест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Сврха инвестир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устајање од текуће потрошње да би се кроз инвестирање обезбедили позитивни ефекти у будућ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цена исплативости инвестиција може се вршити коришћењем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две групе показатељ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Статичке методе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Динамике мет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тат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азивају се још 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традиционалне мет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ажна карактеристика је да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не укључују временску компонент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, али је то истовремено и њихов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највећи недостат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 статичке методе се убрајај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0000"/>
                </a:solidFill>
                <a:latin typeface="Arial"/>
              </a:rPr>
              <a:t>Период повраћа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Arial"/>
              </a:rPr>
              <a:t>Рачуноводствена стопа принос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тат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Период повраћај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се одређује бројем година који је потребно да протекне да би се из годишњих нето новчаних токова отплатио иницијални капитални издат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581280" y="3886200"/>
            <a:ext cx="5181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нето новчани ток у години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p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период повраћ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инвестициони тро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868320" y="4572000"/>
            <a:ext cx="1822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тат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752480"/>
          <a:ext cx="8229600" cy="4772160"/>
        </p:xfrm>
        <a:graphic>
          <a:graphicData uri="http://schemas.openxmlformats.org/drawingml/2006/table">
            <a:tbl>
              <a:tblPr/>
              <a:tblGrid>
                <a:gridCol w="1646280"/>
                <a:gridCol w="3840120"/>
                <a:gridCol w="274320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ишњи нето новчани ток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татак улаг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повраћа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ажна карактеристика је да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 укључују временску компонент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, односно респектују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временску вредност нов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инамичке методе се заснивају на 2 поступ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0000"/>
                </a:solidFill>
                <a:latin typeface="Arial"/>
              </a:rPr>
              <a:t>Дисконтовањ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0000"/>
                </a:solidFill>
                <a:latin typeface="Arial"/>
              </a:rPr>
              <a:t>Капитализац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 динамичке методе се убрајај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0000"/>
                </a:solidFill>
                <a:latin typeface="Arial"/>
              </a:rPr>
              <a:t>Метод нето садашње вредност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0000"/>
                </a:solidFill>
                <a:latin typeface="Arial"/>
              </a:rPr>
              <a:t>Интерна стопа принос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СВ је разлика између садашње вредности очекиваних нето прилива од пројекта и инвестиционог трошка.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Критеријум – НСВ веће од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278136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581280" y="3886200"/>
            <a:ext cx="5181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PV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нето садашња вред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трајање про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нето новчани ток у години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година про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инвестициони тро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захтевани при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676520"/>
          <a:ext cx="8610480" cy="5025960"/>
        </p:xfrm>
        <a:graphic>
          <a:graphicData uri="http://schemas.openxmlformats.org/drawingml/2006/table">
            <a:tbl>
              <a:tblPr/>
              <a:tblGrid>
                <a:gridCol w="1344600"/>
                <a:gridCol w="2063880"/>
                <a:gridCol w="3049560"/>
                <a:gridCol w="2152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чани 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сконтни фактор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=1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дашња вред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4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о садашња вред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6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СП је она дисконтна стопа која НСВ своди на 0 (нул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Критеријум – ИСП треба да буде већа од трошка капитала (кама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581280" y="3962520"/>
            <a:ext cx="5181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трајање про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нето новчани ток у години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година про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инвестициони тро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RR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ИСП (интерна стопа прино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431640" y="4572000"/>
            <a:ext cx="2786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22T20:05:55Z</dcterms:modified>
  <cp:revision>155</cp:revision>
  <dc:subject/>
  <dc:title>Soft and Hard Skills Development: A Current Situation in Serbian Companies</dc:title>
</cp:coreProperties>
</file>